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B75-F6FD-4C8E-9847-718A7CA8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735-3E74-478B-AE32-EB9F5CD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B55-CCA6-425A-B10B-C41BB042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E7A-3AE4-4754-AF04-23169F18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3233-AAC8-47D9-AF87-D96B3062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921A-7F1E-4944-8ACF-E73B613A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3D91-A033-4388-8AE1-9F182DE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E064-370D-4B58-A043-3E360AE1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9790-A641-4506-B364-FE9C84B3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289E-9A35-41AF-BE08-0D51E04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2085-D722-4E51-8266-BDB79210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F43-9F61-4190-AEFF-84E9AB5D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11D8-6504-480C-B651-F57B29A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E4D3-52E6-4FAB-85AF-21E3CAC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91CF-9CCA-4860-A33C-03B57208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14DB-7E2D-4462-BC6F-4444A846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19EC-1DA2-441D-8926-ED828E4E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619-9783-404F-85AE-B18F45D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1F8-141B-4B6E-89FA-ECF98C2D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AAD-1F0E-4C14-B1A0-83865454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EDD-B8F1-4BAC-A274-6B03A2E6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D3A-7AA4-45EF-BAEA-DE6DD314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E33-CED1-4AA3-A3AA-51ECE992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B06-BDDC-4B53-A59D-C644548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9080" y="1440"/>
            <a:ext cx="19000440" cy="13690440"/>
            <a:chOff x="-9109080" y="1440"/>
            <a:chExt cx="19000440" cy="13690440"/>
          </a:xfrm>
        </p:grpSpPr>
        <p:sp>
          <p:nvSpPr>
            <p:cNvPr id="1" name=""/>
            <p:cNvSpPr/>
            <p:nvPr/>
          </p:nvSpPr>
          <p:spPr>
            <a:xfrm>
              <a:off x="5835600" y="1585800"/>
              <a:ext cx="405576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9080" y="1440"/>
              <a:ext cx="1821816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9B67-D6B6-47AA-82B9-9D1880940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8407080" y="1460520"/>
            <a:ext cx="18312840" cy="10794600"/>
            <a:chOff x="-8407080" y="1460520"/>
            <a:chExt cx="18312840" cy="10794600"/>
          </a:xfrm>
        </p:grpSpPr>
        <p:sp>
          <p:nvSpPr>
            <p:cNvPr id="45" name=""/>
            <p:cNvSpPr/>
            <p:nvPr/>
          </p:nvSpPr>
          <p:spPr>
            <a:xfrm>
              <a:off x="3544560" y="2709720"/>
              <a:ext cx="636120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8407080" y="1460520"/>
              <a:ext cx="1457244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C3D8-C525-4D83-B88C-A9BA3BF23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H="1" flipV="1">
            <a:off x="4521240" y="4941360"/>
            <a:ext cx="1835280" cy="111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540320" y="4114800"/>
            <a:ext cx="0" cy="83808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1520" y="411480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8172360" y="31240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19480" y="3124080"/>
            <a:ext cx="4952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01840" y="1599840"/>
            <a:ext cx="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568520" y="1619280"/>
            <a:ext cx="1650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686640" y="24379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2057400"/>
            <a:ext cx="107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92640" y="15238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7680" y="457200"/>
            <a:ext cx="9410760" cy="601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3600" y="4292640"/>
            <a:ext cx="1800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ANIAPURAM SUMP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 PROPOSED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12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30.2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VL    : 128.2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32.2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37240" y="3409920"/>
            <a:ext cx="16509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HOUSING BOAR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12.45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30.1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42.1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6.77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990720"/>
            <a:ext cx="16509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MC COLON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3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7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9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2.6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21240" y="914400"/>
            <a:ext cx="16509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HOBHI KHAN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4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127.7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9.71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3.31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7800" y="1905120"/>
            <a:ext cx="16509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GRAVE YAR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0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5.0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9.0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2.5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92200"/>
            <a:ext cx="1068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LUR CWSS – AVANIAPURAM MUNICIPALITY IN MADURAI DISTRI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LOW DIA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06720" y="5300640"/>
            <a:ext cx="325440" cy="303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6720" y="5715000"/>
            <a:ext cx="325440" cy="30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960" y="530064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XIS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9960" y="571644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OPO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423120" y="1981080"/>
            <a:ext cx="495000" cy="457200"/>
            <a:chOff x="6423120" y="1981080"/>
            <a:chExt cx="495000" cy="457200"/>
          </a:xfrm>
        </p:grpSpPr>
        <p:sp>
          <p:nvSpPr>
            <p:cNvPr id="109" name=""/>
            <p:cNvSpPr/>
            <p:nvPr/>
          </p:nvSpPr>
          <p:spPr>
            <a:xfrm>
              <a:off x="6493680" y="21808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93680" y="22507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679080" y="224136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93680" y="23652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79080" y="21715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679080" y="235836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66640" y="21808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31400" y="19810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423120" y="2019240"/>
              <a:ext cx="486000" cy="180000"/>
              <a:chOff x="6423120" y="2019240"/>
              <a:chExt cx="486000" cy="180000"/>
            </a:xfrm>
          </p:grpSpPr>
          <p:sp>
            <p:nvSpPr>
              <p:cNvPr id="118" name=""/>
              <p:cNvSpPr/>
              <p:nvPr/>
            </p:nvSpPr>
            <p:spPr>
              <a:xfrm>
                <a:off x="6450480" y="20192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23120" y="21708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6356520" y="4648320"/>
            <a:ext cx="742680" cy="5331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1520" y="411480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282920" y="3686040"/>
            <a:ext cx="495000" cy="457200"/>
            <a:chOff x="4282920" y="3686040"/>
            <a:chExt cx="495000" cy="457200"/>
          </a:xfrm>
        </p:grpSpPr>
        <p:sp>
          <p:nvSpPr>
            <p:cNvPr id="123" name=""/>
            <p:cNvSpPr/>
            <p:nvPr/>
          </p:nvSpPr>
          <p:spPr>
            <a:xfrm>
              <a:off x="4353480" y="388584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3480" y="395568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538880" y="394632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3480" y="407016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880" y="38764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538880" y="406332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6440" y="38858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91200" y="36860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282920" y="3724200"/>
              <a:ext cx="486000" cy="180000"/>
              <a:chOff x="4282920" y="3724200"/>
              <a:chExt cx="486000" cy="180000"/>
            </a:xfrm>
          </p:grpSpPr>
          <p:sp>
            <p:nvSpPr>
              <p:cNvPr id="132" name=""/>
              <p:cNvSpPr/>
              <p:nvPr/>
            </p:nvSpPr>
            <p:spPr>
              <a:xfrm>
                <a:off x="4310280" y="37242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82920" y="38757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1109520" y="1495440"/>
            <a:ext cx="495000" cy="457200"/>
            <a:chOff x="1109520" y="1495440"/>
            <a:chExt cx="495000" cy="457200"/>
          </a:xfrm>
        </p:grpSpPr>
        <p:sp>
          <p:nvSpPr>
            <p:cNvPr id="135" name=""/>
            <p:cNvSpPr/>
            <p:nvPr/>
          </p:nvSpPr>
          <p:spPr>
            <a:xfrm>
              <a:off x="1180080" y="169524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80080" y="176508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365480" y="175572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80080" y="187956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65480" y="16858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365480" y="187272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53040" y="169524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7800" y="14954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109520" y="1533600"/>
              <a:ext cx="486000" cy="180000"/>
              <a:chOff x="1109520" y="1533600"/>
              <a:chExt cx="486000" cy="180000"/>
            </a:xfrm>
          </p:grpSpPr>
          <p:sp>
            <p:nvSpPr>
              <p:cNvPr id="144" name=""/>
              <p:cNvSpPr/>
              <p:nvPr/>
            </p:nvSpPr>
            <p:spPr>
              <a:xfrm>
                <a:off x="1136880" y="15336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09520" y="16851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4029120" y="1042920"/>
            <a:ext cx="495000" cy="457200"/>
            <a:chOff x="4029120" y="1042920"/>
            <a:chExt cx="495000" cy="457200"/>
          </a:xfrm>
        </p:grpSpPr>
        <p:sp>
          <p:nvSpPr>
            <p:cNvPr id="147" name=""/>
            <p:cNvSpPr/>
            <p:nvPr/>
          </p:nvSpPr>
          <p:spPr>
            <a:xfrm>
              <a:off x="4099680" y="12427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99680" y="13125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285080" y="13032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99680" y="14270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85080" y="12333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285080" y="14202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72640" y="12427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7400" y="10429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029120" y="1081080"/>
              <a:ext cx="486000" cy="180000"/>
              <a:chOff x="4029120" y="1081080"/>
              <a:chExt cx="486000" cy="180000"/>
            </a:xfrm>
          </p:grpSpPr>
          <p:sp>
            <p:nvSpPr>
              <p:cNvPr id="156" name=""/>
              <p:cNvSpPr/>
              <p:nvPr/>
            </p:nvSpPr>
            <p:spPr>
              <a:xfrm>
                <a:off x="4056480" y="10810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29120" y="12326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1882800" y="1384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786/167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5238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6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82800" y="1600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68520" y="18446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25/68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0666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5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20606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59160" y="1916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31845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5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0520" y="2897280"/>
            <a:ext cx="10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111/236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97280" y="311292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743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8/47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08880" y="27273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21680" y="358128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3581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319/28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133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83160" y="419256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81/336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54440" y="4365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3657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4952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6800" y="49417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00 DI K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26160" y="4724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81/336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92520" y="5443920"/>
            <a:ext cx="838080" cy="252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28880" y="5300640"/>
            <a:ext cx="14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5943240"/>
            <a:ext cx="838080" cy="2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65600" y="579132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 MAIN 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6160" y="5162400"/>
            <a:ext cx="17287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.0 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 1581 LPM x  2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2.5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 1319 LPM x  2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6BA-5035-45EC-978B-CAE92D7ED3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743360" y="3462480"/>
            <a:ext cx="743040" cy="5331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2255760"/>
            <a:ext cx="18158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ANDHA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PROPOSED SUMP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4.9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2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FVL    : 120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24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86400" y="3157200"/>
            <a:ext cx="1219320" cy="6094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667560" y="3030480"/>
            <a:ext cx="494280" cy="456480"/>
            <a:chOff x="6667560" y="3030480"/>
            <a:chExt cx="494280" cy="456480"/>
          </a:xfrm>
        </p:grpSpPr>
        <p:sp>
          <p:nvSpPr>
            <p:cNvPr id="188" name=""/>
            <p:cNvSpPr/>
            <p:nvPr/>
          </p:nvSpPr>
          <p:spPr>
            <a:xfrm>
              <a:off x="6737400" y="323028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37400" y="3300120"/>
              <a:ext cx="19584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923880" y="329040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37400" y="341460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23880" y="322092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23880" y="340776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0000" y="32302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75840" y="3030480"/>
              <a:ext cx="48600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667560" y="3068280"/>
              <a:ext cx="484200" cy="180360"/>
              <a:chOff x="6667560" y="3068280"/>
              <a:chExt cx="484200" cy="180360"/>
            </a:xfrm>
          </p:grpSpPr>
          <p:sp>
            <p:nvSpPr>
              <p:cNvPr id="197" name=""/>
              <p:cNvSpPr/>
              <p:nvPr/>
            </p:nvSpPr>
            <p:spPr>
              <a:xfrm>
                <a:off x="6694920" y="3068280"/>
                <a:ext cx="43848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667560" y="3220200"/>
                <a:ext cx="48420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337440" y="1828800"/>
            <a:ext cx="18158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SANDHA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(PROPOSED SR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AP     : 2.00  L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AV GL : 122.42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LWL    : 138.42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   : 141.92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3462480"/>
            <a:ext cx="381240" cy="72864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134040" y="4191120"/>
            <a:ext cx="495000" cy="457200"/>
            <a:chOff x="6134040" y="4191120"/>
            <a:chExt cx="495000" cy="457200"/>
          </a:xfrm>
        </p:grpSpPr>
        <p:sp>
          <p:nvSpPr>
            <p:cNvPr id="202" name=""/>
            <p:cNvSpPr/>
            <p:nvPr/>
          </p:nvSpPr>
          <p:spPr>
            <a:xfrm>
              <a:off x="6204600" y="43909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4600" y="44607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390000" y="44514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04600" y="45752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90000" y="43815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390000" y="45684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77560" y="43909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2320" y="41911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134040" y="4229280"/>
              <a:ext cx="486000" cy="180000"/>
              <a:chOff x="6134040" y="4229280"/>
              <a:chExt cx="486000" cy="180000"/>
            </a:xfrm>
          </p:grpSpPr>
          <p:sp>
            <p:nvSpPr>
              <p:cNvPr id="211" name=""/>
              <p:cNvSpPr/>
              <p:nvPr/>
            </p:nvSpPr>
            <p:spPr>
              <a:xfrm>
                <a:off x="6161400" y="42292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34040" y="43808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6591240" y="4008600"/>
            <a:ext cx="14860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ANDHAI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1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2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4.4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37.92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957800">
            <a:off x="5319000" y="3606480"/>
            <a:ext cx="103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326/67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9957800">
            <a:off x="5953680" y="3314520"/>
            <a:ext cx="103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210/44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3487200">
            <a:off x="5793840" y="3650400"/>
            <a:ext cx="1032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116/23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20092800">
            <a:off x="5309280" y="327636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100 DI K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95560" y="34131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 .0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 326 LPM x  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.5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88 LPM x 26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.0 HP OW SUB P’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 819 LPM x 28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025880"/>
            <a:ext cx="0" cy="13716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5384880"/>
            <a:ext cx="26668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362320" y="1295280"/>
            <a:ext cx="0" cy="41148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599840" y="2514600"/>
            <a:ext cx="76212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914040" y="914040"/>
            <a:ext cx="685800" cy="1600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20560" y="2526840"/>
            <a:ext cx="1067040" cy="2057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689120"/>
            <a:ext cx="1816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PTY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7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6.2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8.20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1.20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66880" y="1219320"/>
            <a:ext cx="495000" cy="457200"/>
            <a:chOff x="2666880" y="1219320"/>
            <a:chExt cx="495000" cy="457200"/>
          </a:xfrm>
        </p:grpSpPr>
        <p:sp>
          <p:nvSpPr>
            <p:cNvPr id="227" name=""/>
            <p:cNvSpPr/>
            <p:nvPr/>
          </p:nvSpPr>
          <p:spPr>
            <a:xfrm>
              <a:off x="2737440" y="14191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7440" y="14889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922840" y="14796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7440" y="16034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22840" y="14097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922840" y="15966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10400" y="14191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75160" y="12193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666880" y="1257480"/>
              <a:ext cx="486000" cy="180000"/>
              <a:chOff x="2666880" y="1257480"/>
              <a:chExt cx="486000" cy="180000"/>
            </a:xfrm>
          </p:grpSpPr>
          <p:sp>
            <p:nvSpPr>
              <p:cNvPr id="236" name=""/>
              <p:cNvSpPr/>
              <p:nvPr/>
            </p:nvSpPr>
            <p:spPr>
              <a:xfrm>
                <a:off x="2694240" y="12574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14090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2362320" y="1295280"/>
            <a:ext cx="3045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92240" y="241200"/>
            <a:ext cx="16509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JAWAHAR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3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7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9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2.13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91960" y="762120"/>
            <a:ext cx="495000" cy="457200"/>
            <a:chOff x="291960" y="762120"/>
            <a:chExt cx="495000" cy="457200"/>
          </a:xfrm>
        </p:grpSpPr>
        <p:sp>
          <p:nvSpPr>
            <p:cNvPr id="241" name=""/>
            <p:cNvSpPr/>
            <p:nvPr/>
          </p:nvSpPr>
          <p:spPr>
            <a:xfrm>
              <a:off x="362520" y="96192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2520" y="103176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47920" y="102240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2520" y="114624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7920" y="9525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47920" y="113940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480" y="96192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240" y="76212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91960" y="800280"/>
              <a:ext cx="486000" cy="180000"/>
              <a:chOff x="291960" y="800280"/>
              <a:chExt cx="486000" cy="180000"/>
            </a:xfrm>
          </p:grpSpPr>
          <p:sp>
            <p:nvSpPr>
              <p:cNvPr id="250" name=""/>
              <p:cNvSpPr/>
              <p:nvPr/>
            </p:nvSpPr>
            <p:spPr>
              <a:xfrm>
                <a:off x="319320" y="80028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1960" y="95184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 flipH="1">
            <a:off x="761760" y="914400"/>
            <a:ext cx="15228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234040"/>
            <a:ext cx="181620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OHAMADSHA PURA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(EXISTING  SR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AP     : 5.00  L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AV GL : 125.75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LWL    : 137.75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MWL   : 140.75 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4920" y="4545000"/>
            <a:ext cx="495000" cy="457200"/>
            <a:chOff x="304920" y="4545000"/>
            <a:chExt cx="495000" cy="457200"/>
          </a:xfrm>
        </p:grpSpPr>
        <p:sp>
          <p:nvSpPr>
            <p:cNvPr id="255" name=""/>
            <p:cNvSpPr/>
            <p:nvPr/>
          </p:nvSpPr>
          <p:spPr>
            <a:xfrm>
              <a:off x="375480" y="474480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5480" y="481464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60880" y="480528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5480" y="492912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0880" y="47354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60880" y="492228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8440" y="47448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3200" y="454500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04920" y="4583160"/>
              <a:ext cx="486000" cy="180000"/>
              <a:chOff x="304920" y="4583160"/>
              <a:chExt cx="486000" cy="180000"/>
            </a:xfrm>
          </p:grpSpPr>
          <p:sp>
            <p:nvSpPr>
              <p:cNvPr id="264" name=""/>
              <p:cNvSpPr/>
              <p:nvPr/>
            </p:nvSpPr>
            <p:spPr>
              <a:xfrm>
                <a:off x="332280" y="458316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4920" y="473472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52280" y="12794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5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228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27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54705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2514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6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346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7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49784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77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50896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288 / 51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2743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992 / 19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36576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626 / 12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16002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66 / 7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15843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296 / 31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4025880"/>
            <a:ext cx="0" cy="13716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5359320"/>
            <a:ext cx="35816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924320" y="3276360"/>
            <a:ext cx="838440" cy="2057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63120" y="5346720"/>
            <a:ext cx="68580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448920" y="5334120"/>
            <a:ext cx="0" cy="5331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924680" y="1295280"/>
            <a:ext cx="0" cy="19814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533520"/>
            <a:ext cx="1904760" cy="7617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924680" y="609120"/>
            <a:ext cx="1295640" cy="6858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365040"/>
            <a:ext cx="17337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KARPAGA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3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4.8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6.8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39.82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600880" y="380880"/>
            <a:ext cx="494640" cy="457200"/>
            <a:chOff x="5600880" y="380880"/>
            <a:chExt cx="494640" cy="457200"/>
          </a:xfrm>
        </p:grpSpPr>
        <p:sp>
          <p:nvSpPr>
            <p:cNvPr id="288" name=""/>
            <p:cNvSpPr/>
            <p:nvPr/>
          </p:nvSpPr>
          <p:spPr>
            <a:xfrm>
              <a:off x="5671080" y="58068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1080" y="65052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856840" y="641160"/>
              <a:ext cx="187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71080" y="76500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56840" y="57132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856840" y="758160"/>
              <a:ext cx="18720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44400" y="58068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09160" y="38088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600880" y="419040"/>
              <a:ext cx="485640" cy="180000"/>
              <a:chOff x="5600880" y="419040"/>
              <a:chExt cx="485640" cy="180000"/>
            </a:xfrm>
          </p:grpSpPr>
          <p:sp>
            <p:nvSpPr>
              <p:cNvPr id="297" name=""/>
              <p:cNvSpPr/>
              <p:nvPr/>
            </p:nvSpPr>
            <p:spPr>
              <a:xfrm>
                <a:off x="5628240" y="41904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00880" y="57060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8381880" y="1079640"/>
            <a:ext cx="18162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ONAIMEENA NA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PROPOSED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2.9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8.99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42.99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9169560" y="457200"/>
            <a:ext cx="493920" cy="456480"/>
            <a:chOff x="9169560" y="457200"/>
            <a:chExt cx="493920" cy="456480"/>
          </a:xfrm>
        </p:grpSpPr>
        <p:sp>
          <p:nvSpPr>
            <p:cNvPr id="301" name=""/>
            <p:cNvSpPr/>
            <p:nvPr/>
          </p:nvSpPr>
          <p:spPr>
            <a:xfrm>
              <a:off x="9239400" y="657000"/>
              <a:ext cx="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239400" y="726840"/>
              <a:ext cx="19548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9425520" y="717120"/>
              <a:ext cx="1861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239400" y="841320"/>
              <a:ext cx="186120" cy="2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425520" y="647640"/>
              <a:ext cx="0" cy="26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9425520" y="834480"/>
              <a:ext cx="1861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611640" y="65700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77840" y="457200"/>
              <a:ext cx="485640" cy="284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9169560" y="495000"/>
              <a:ext cx="483840" cy="180360"/>
              <a:chOff x="9169560" y="495000"/>
              <a:chExt cx="483840" cy="180360"/>
            </a:xfrm>
          </p:grpSpPr>
          <p:sp>
            <p:nvSpPr>
              <p:cNvPr id="310" name=""/>
              <p:cNvSpPr/>
              <p:nvPr/>
            </p:nvSpPr>
            <p:spPr>
              <a:xfrm>
                <a:off x="9196920" y="495000"/>
                <a:ext cx="438120" cy="170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169560" y="646920"/>
                <a:ext cx="483840" cy="284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7848720" y="5651640"/>
            <a:ext cx="18158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SOUTH STRE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(EXISTING S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CAP     : 2.00  L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V GL : 122.3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WL    : 134.385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MWL   : 137.385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9182160" y="5819760"/>
            <a:ext cx="495000" cy="457200"/>
            <a:chOff x="9182160" y="5819760"/>
            <a:chExt cx="495000" cy="457200"/>
          </a:xfrm>
        </p:grpSpPr>
        <p:sp>
          <p:nvSpPr>
            <p:cNvPr id="314" name=""/>
            <p:cNvSpPr/>
            <p:nvPr/>
          </p:nvSpPr>
          <p:spPr>
            <a:xfrm>
              <a:off x="9252720" y="6019560"/>
              <a:ext cx="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252720" y="6089400"/>
              <a:ext cx="19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9438120" y="6080040"/>
              <a:ext cx="1875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252720" y="6203880"/>
              <a:ext cx="1854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438120" y="601020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9438120" y="6197040"/>
              <a:ext cx="1875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625680" y="6019560"/>
              <a:ext cx="0" cy="2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90440" y="581976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9182160" y="5857920"/>
              <a:ext cx="486000" cy="180000"/>
              <a:chOff x="9182160" y="5857920"/>
              <a:chExt cx="486000" cy="180000"/>
            </a:xfrm>
          </p:grpSpPr>
          <p:sp>
            <p:nvSpPr>
              <p:cNvPr id="323" name=""/>
              <p:cNvSpPr/>
              <p:nvPr/>
            </p:nvSpPr>
            <p:spPr>
              <a:xfrm>
                <a:off x="9209520" y="585792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182160" y="600948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6248520" y="5410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819 / 16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01000" y="5089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8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1219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3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991720" y="228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195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82224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7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067680" y="63849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S 5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4520" y="5410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35 / 47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01000" y="3505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584 / 11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24680" y="59364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18 / 44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5335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66 / 7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360" y="0"/>
            <a:ext cx="97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ELUR CWSS – THIRUMANGALAM  MUNICIPALITY IN MADURAI  DISTRICT FLOW DIA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22860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0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9051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17366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3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886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760" y="0"/>
            <a:ext cx="9829800" cy="685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4480" y="56386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0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01000" y="3124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4190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0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763120" y="50896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6699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150 DI K7 C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10280" y="1523880"/>
            <a:ext cx="13716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10280" y="1676520"/>
            <a:ext cx="137160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6292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1520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012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7240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1000" y="1447920"/>
            <a:ext cx="0" cy="3045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0120" y="3200400"/>
            <a:ext cx="152280" cy="152280"/>
          </a:xfrm>
          <a:prstGeom prst="plus">
            <a:avLst>
              <a:gd name="adj" fmla="val 25000"/>
            </a:avLst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341316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THEVAR STATU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0AD-79C8-4882-AAE8-4AA884A2D94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8:50:02Z</dcterms:created>
  <dc:creator> twad</dc:creator>
  <dc:description/>
  <dc:language>en-US</dc:language>
  <cp:lastModifiedBy>PF1</cp:lastModifiedBy>
  <dcterms:modified xsi:type="dcterms:W3CDTF">2010-12-24T13:15:47Z</dcterms:modified>
  <cp:revision>1282</cp:revision>
  <dc:subject/>
  <dc:title>PowerPoint Presentation</dc:title>
</cp:coreProperties>
</file>