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907588" cy="6858000"/>
  <p:notesSz cx="6973888" cy="10109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973200" cy="101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1120" cy="504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949560" y="0"/>
            <a:ext cx="3021120" cy="504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748800" y="758880"/>
            <a:ext cx="5473800" cy="3790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96960" y="4800600"/>
            <a:ext cx="5578560" cy="45496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0" y="9602280"/>
            <a:ext cx="3021120" cy="505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949560" y="9602280"/>
            <a:ext cx="3021120" cy="505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7A81-A098-4D47-B65E-A445B32CD3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949560" y="9602640"/>
            <a:ext cx="302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925AD29-EDFE-42DF-BF7B-C62A95D3566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749160" y="758880"/>
            <a:ext cx="5473800" cy="37908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96960" y="4800600"/>
            <a:ext cx="5578560" cy="45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22C2-446F-4FEE-BC53-553DFD7D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77F1-206E-43FE-A577-90EAFA5F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1E20E-E76A-4DDF-A090-332B6245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4C0D4-FFB3-4AFD-B219-02AE68C5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37CDA-0D5B-4EC3-8EE7-DE121433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65DA8-0D2A-48F0-BE0D-E6BB700F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06842-B624-4704-9C73-2F749CC0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AA3EA-B74F-4F04-9723-8585E817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1CD24-2E51-4DCF-82B7-A8D5AFEE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2A8F9-9A86-4489-AB9C-0C446DD0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EC697-607B-4497-8CBA-54B0B56D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72F8B-FC3C-4AE7-9F9A-86560D9F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415-F22A-4166-A296-1D5699F5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EDBB8-2048-4BB4-9D9B-8F1ECBD2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363C0-04C2-4DF3-AC9E-394685EE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435B8-BBE7-4836-9420-EEC4F160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9249F-11E8-40D1-BA83-45BCF43A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ED289-3C5F-4C58-902F-9D0029F5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2A64B-DD99-4ADF-BE74-BBAC3909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D3550-E156-480F-B6B7-A7B8AEFE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A5F35-D4B3-49D9-AF7C-034B6709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41750-7EF6-4952-8805-360C6ACE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423E4-A5D4-4C00-B186-CD5CA2E8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BB0E-C4B4-4A02-81A9-C3492719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37240-11C3-48BD-B55D-769354AE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D182D-0857-496D-B018-986C6DD6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1A204-355B-43EB-838E-C16270D9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BBA21-0BE3-40D0-AB77-242B33F2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47EC9-000D-472E-8C52-88967E35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8CC32-8E90-480E-86C7-7E56CA70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294FB-E248-42AF-AEE3-15EA597F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F07F3-3BFF-4BFA-A27B-32271B4E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E1ECD-5D03-4DD6-BB43-C989B099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18C6F-FAA0-4AD1-99AA-2E4B8981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4C88-D11D-49D3-B4E4-BBA4C7A1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9369B-7A31-406C-80F9-A191B831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2F8B9-8BC9-47CB-85CA-4DE5DC17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76A3B-D748-4B35-922D-4973A0B2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C38F6-4408-4E87-AFB2-61660F48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C1812-94D1-4459-98B6-203BB337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128FA-03B0-4DD6-8FB6-89BA53D5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84E29-77DC-474B-8191-8F250BF0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59045-E6BA-4016-8081-70DF6B24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231D1-1AC3-4708-A845-963229BC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2D377-D2E8-480D-927B-A6D25A0D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A071-215F-424A-A65E-21300BF4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1ADF7-9D7F-4A04-9075-804F3164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A154E-7CFB-4A71-9CA7-38CA38C5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7452E-A270-4611-8B66-F1C09B8C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F92F8-BA1E-4164-A044-498EC09B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628AB-0B6B-4F95-9D24-CD9F49D2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8F93-08C5-4459-8332-55CB1C4F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7DAC-34F6-4F7A-8063-647740AD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6AC2-1193-4FE0-A69E-8A2A84F7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996A-42BF-4E1D-820A-C7382D5D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1697-B247-410E-8351-25D65B58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368-D584-44C0-8185-46C19CA7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A145-63BF-4046-AAD4-67B4C344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AF78-A7B3-4D3E-B4A9-6EC7604E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CF40-1536-40DA-9130-FDAB7CF0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2327-5EA8-4519-997F-D34D5597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30AC-93E0-4E0B-9E76-C5B1A5F6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9EED3-B231-4C11-8040-A0649609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48F07-7B83-47AA-888C-883EEF47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966EE-3C39-4318-BB01-0A438999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D2D5F-A4BB-43DA-979F-4F7149AB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3F6F7-6727-45B5-934C-4F2D2AF7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6FC7-BF6C-4008-8E0D-688B2ECC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A9D34-4634-44EA-B7F2-A3E38BC8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C2BBD-E9C4-4453-8C25-B35A275F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466C2-4FB8-4B47-BFE8-A48E4272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3B51A-6491-44AA-B2CE-C7227E7B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AEEFC-09C8-4D6A-99C9-8FF76434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15605-DC64-403B-A96D-4A77FF94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E74CA-04FB-40D8-BAC0-9BA8D218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34B43-9B96-4861-9815-11E656A4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A11DD-D624-40E4-B6B1-44A0626B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1200F-8F39-4E56-8241-F28715C7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5F10-F2A6-4D5B-B99F-BCA58EE6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AD04A-BB5E-404F-8DE3-AFD66705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04568-3C98-4D4F-A130-1DD09D28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B275E-E156-453E-8B31-7006B965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D4335-B955-4C82-8FBC-49522B00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7B1D3-DF25-4DDA-A7D3-F70908CA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FCA47-988F-492B-859C-FBF15C2A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4A761-825C-45EB-945A-F915B2AA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2DE0E-C0A3-4455-9284-D5A582E5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E009A-9CD2-44D2-BCE9-A63A59CA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9D5DE-FB62-4FD0-8B99-58EB2396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280-1D62-418F-B22F-DD141E28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69B5E-3FCA-4552-8F0B-45C89057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1ED8F-BAF6-40D6-9E5B-200E3BB7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02C90-EEC7-46E6-B115-492E5DBD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DF79D-F942-40F5-A192-E6AB2E11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E971F-A59E-4125-B3D8-62F4B744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BE258-6648-48B5-A633-2B72DE04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0048B-A339-4860-BA0F-91C90F66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EB531-337E-4E3E-ADCB-6213EB6D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1FF16-DEEA-4932-AED0-B3B456F3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E70D6-A628-46D0-827E-F0508A2C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7FF5-73AE-42CF-A992-ACE57F96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F7765-8691-4639-A7D6-55322500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1D447-048D-4B04-805D-F3F66A50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52A24-65A5-4F50-81D5-C9FEF0C6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7F108-B6E6-4AA0-995C-A1F64E9C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A545A-99C7-4FDF-A16D-25429523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E8974-E7BF-4C42-8DF4-13FA1931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4FC26-8B20-433D-AED8-D00806AC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44198-3ED2-476E-97DF-AA21CB64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E4FDB-5236-49F3-82A2-AD4A6BEB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A959B-2F38-4FAC-B7A7-7E681B98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0F4B-4FD5-41DE-9B67-57F7BADC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684ED-B920-4C20-BCDA-EEE05F6C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0630B-F9CE-47E3-A193-3335A52D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AAB3A-5A80-4AAE-A14B-9701B19D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C12A6-04B8-431F-BD2F-CD66CF02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8A980-08F2-4475-8B78-83BAB538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3C365-F9AE-4893-ADBD-1F304BBD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78192-E7C7-4241-BC99-A8751B06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E12DB-816E-4466-885E-2C72FB76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6F582-F143-4B1F-8604-6DDBF65D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3E65B-17F2-41FE-887C-7E6DC714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197-A58D-411D-8E2B-7B0A978E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CE3C4-CE74-4846-9CD6-38A6EC4E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62B92-9411-40A4-8B18-1BEEBD2B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D9EB7-CE78-445D-8E2B-8F6DBEAC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0450F-1985-4E48-BB28-AE2C7C1D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996C4-4E8E-4D7B-AAE1-58BE5858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C1DEC-D40F-4B97-AA20-5FFD6FBE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B11D0-A323-4536-A55B-6FE719C5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2A635-A6F5-471D-9B37-17CDF8B7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9646C-0F8F-45DD-B5D7-863C03B3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8BF0F-7105-4AF6-927D-1E8FAD3F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5B12-0A25-4A6F-BD10-16495208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895A3-1D2A-40CE-854E-345DA8E0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9F4C8-2B11-49BA-8E94-6BC53EF7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EBCED-B2B6-476C-B9DF-649D578F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5EF38-C64A-4262-BAB2-103B4DFF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6DA06-457F-4E76-8D1C-20115855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6B0E1-E678-4DCA-AB99-79E63D37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9618D-CE75-4276-9BAC-FF858B71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E115E-3E50-4E93-8E6D-F6110014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4CB34-3A68-48D3-AF2D-F0A4650B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30738-98B5-4BF8-A95E-AB22A8D4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891360" cy="6845400"/>
            <a:chOff x="0" y="1440"/>
            <a:chExt cx="9891360" cy="6845400"/>
          </a:xfrm>
        </p:grpSpPr>
        <p:sp>
          <p:nvSpPr>
            <p:cNvPr id="1" name="Freeform 3"/>
            <p:cNvSpPr/>
            <p:nvPr/>
          </p:nvSpPr>
          <p:spPr>
            <a:xfrm>
              <a:off x="5835600" y="1585800"/>
              <a:ext cx="405576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910944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E27F-C008-4DEA-96B9-9D25CF554E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6F41-8D9D-488D-A253-E72B870ABB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6B3F-5429-4417-88EF-73C4A15EE9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0AA6-3107-44B1-BB93-7D2875FD54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120680" y="1552680"/>
            <a:ext cx="11026440" cy="5305320"/>
            <a:chOff x="-1120680" y="1552680"/>
            <a:chExt cx="11026440" cy="5305320"/>
          </a:xfrm>
        </p:grpSpPr>
        <p:sp>
          <p:nvSpPr>
            <p:cNvPr id="45" name="Freeform 3"/>
            <p:cNvSpPr/>
            <p:nvPr/>
          </p:nvSpPr>
          <p:spPr>
            <a:xfrm>
              <a:off x="3544560" y="2709720"/>
              <a:ext cx="636120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120680" y="1552680"/>
              <a:ext cx="728640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A0CF-581F-489F-BDA9-5FB18E6A55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9908-E2B1-4DC6-BAA4-15AAE794AF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3A59-8B96-44B0-93E6-484132B328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8809-A24B-4D45-BF79-91E7BBCCD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2E8F-69F3-450D-B5BC-9C3738914A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8CAC-59C4-4F5F-AE71-640183690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148E-5C5E-4480-B478-9A4077A47B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96B8-CC6B-4546-AE48-4925C988FB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6"/>
          <p:cNvSpPr/>
          <p:nvPr/>
        </p:nvSpPr>
        <p:spPr>
          <a:xfrm>
            <a:off x="-879480" y="3390840"/>
            <a:ext cx="99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114"/>
          <p:cNvSpPr/>
          <p:nvPr/>
        </p:nvSpPr>
        <p:spPr>
          <a:xfrm>
            <a:off x="3024360" y="762120"/>
            <a:ext cx="1643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.00 LL SUMP  AT GANDHI PA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IA  : 36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115"/>
          <p:cNvSpPr/>
          <p:nvPr/>
        </p:nvSpPr>
        <p:spPr>
          <a:xfrm>
            <a:off x="4819680" y="681120"/>
            <a:ext cx="743040" cy="5331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116"/>
          <p:cNvSpPr/>
          <p:nvPr/>
        </p:nvSpPr>
        <p:spPr>
          <a:xfrm>
            <a:off x="5181480" y="1066680"/>
            <a:ext cx="0" cy="143856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117"/>
          <p:cNvSpPr/>
          <p:nvPr/>
        </p:nvSpPr>
        <p:spPr>
          <a:xfrm flipV="1">
            <a:off x="3733920" y="2505240"/>
            <a:ext cx="1447560" cy="9144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118"/>
          <p:cNvSpPr/>
          <p:nvPr/>
        </p:nvSpPr>
        <p:spPr>
          <a:xfrm>
            <a:off x="3733920" y="3419640"/>
            <a:ext cx="1828800" cy="9144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119"/>
          <p:cNvSpPr/>
          <p:nvPr/>
        </p:nvSpPr>
        <p:spPr>
          <a:xfrm>
            <a:off x="5562720" y="4334040"/>
            <a:ext cx="2676240" cy="2376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20"/>
          <p:cNvSpPr/>
          <p:nvPr/>
        </p:nvSpPr>
        <p:spPr>
          <a:xfrm flipV="1">
            <a:off x="8238960" y="1714680"/>
            <a:ext cx="142920" cy="26431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21"/>
          <p:cNvSpPr/>
          <p:nvPr/>
        </p:nvSpPr>
        <p:spPr>
          <a:xfrm flipH="1">
            <a:off x="2895120" y="3419640"/>
            <a:ext cx="838440" cy="12952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122"/>
          <p:cNvSpPr/>
          <p:nvPr/>
        </p:nvSpPr>
        <p:spPr>
          <a:xfrm>
            <a:off x="1595520" y="4714920"/>
            <a:ext cx="1299960" cy="252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124"/>
          <p:cNvSpPr/>
          <p:nvPr/>
        </p:nvSpPr>
        <p:spPr>
          <a:xfrm flipH="1">
            <a:off x="5181120" y="1971720"/>
            <a:ext cx="83844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125"/>
          <p:cNvSpPr/>
          <p:nvPr/>
        </p:nvSpPr>
        <p:spPr>
          <a:xfrm>
            <a:off x="6524640" y="1571760"/>
            <a:ext cx="121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.00LL SR @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ANDHIPARK(EXI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126"/>
          <p:cNvGrpSpPr/>
          <p:nvPr/>
        </p:nvGrpSpPr>
        <p:grpSpPr>
          <a:xfrm>
            <a:off x="5991120" y="1857240"/>
            <a:ext cx="495000" cy="457200"/>
            <a:chOff x="5991120" y="1857240"/>
            <a:chExt cx="495000" cy="457200"/>
          </a:xfrm>
        </p:grpSpPr>
        <p:sp>
          <p:nvSpPr>
            <p:cNvPr id="518" name="Line 127"/>
            <p:cNvSpPr/>
            <p:nvPr/>
          </p:nvSpPr>
          <p:spPr>
            <a:xfrm>
              <a:off x="6061680" y="2057040"/>
              <a:ext cx="0" cy="24768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128"/>
            <p:cNvSpPr/>
            <p:nvPr/>
          </p:nvSpPr>
          <p:spPr>
            <a:xfrm>
              <a:off x="6061680" y="2126880"/>
              <a:ext cx="195840" cy="381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129"/>
            <p:cNvSpPr/>
            <p:nvPr/>
          </p:nvSpPr>
          <p:spPr>
            <a:xfrm flipV="1">
              <a:off x="6247080" y="2117520"/>
              <a:ext cx="187560" cy="381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130"/>
            <p:cNvSpPr/>
            <p:nvPr/>
          </p:nvSpPr>
          <p:spPr>
            <a:xfrm>
              <a:off x="6061680" y="2241360"/>
              <a:ext cx="185400" cy="2520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131"/>
            <p:cNvSpPr/>
            <p:nvPr/>
          </p:nvSpPr>
          <p:spPr>
            <a:xfrm>
              <a:off x="6247080" y="2047680"/>
              <a:ext cx="0" cy="2667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132"/>
            <p:cNvSpPr/>
            <p:nvPr/>
          </p:nvSpPr>
          <p:spPr>
            <a:xfrm flipV="1">
              <a:off x="6247080" y="2234520"/>
              <a:ext cx="187560" cy="3492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133"/>
            <p:cNvSpPr/>
            <p:nvPr/>
          </p:nvSpPr>
          <p:spPr>
            <a:xfrm>
              <a:off x="6434640" y="2057040"/>
              <a:ext cx="0" cy="25092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134"/>
            <p:cNvSpPr/>
            <p:nvPr/>
          </p:nvSpPr>
          <p:spPr>
            <a:xfrm>
              <a:off x="5999400" y="185724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6" name="Group 135"/>
            <p:cNvGrpSpPr/>
            <p:nvPr/>
          </p:nvGrpSpPr>
          <p:grpSpPr>
            <a:xfrm>
              <a:off x="5991120" y="1895400"/>
              <a:ext cx="486000" cy="180000"/>
              <a:chOff x="5991120" y="1895400"/>
              <a:chExt cx="486000" cy="180000"/>
            </a:xfrm>
          </p:grpSpPr>
          <p:sp>
            <p:nvSpPr>
              <p:cNvPr id="527" name="Rectangle 136"/>
              <p:cNvSpPr/>
              <p:nvPr/>
            </p:nvSpPr>
            <p:spPr>
              <a:xfrm>
                <a:off x="6018480" y="189540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Rectangle 137"/>
              <p:cNvSpPr/>
              <p:nvPr/>
            </p:nvSpPr>
            <p:spPr>
              <a:xfrm>
                <a:off x="5991120" y="204696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9" name="Text Box 151"/>
          <p:cNvSpPr/>
          <p:nvPr/>
        </p:nvSpPr>
        <p:spPr>
          <a:xfrm>
            <a:off x="8238960" y="928800"/>
            <a:ext cx="14288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.00LL SR @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NNA COLONY (EXI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Group 152"/>
          <p:cNvGrpSpPr/>
          <p:nvPr/>
        </p:nvGrpSpPr>
        <p:grpSpPr>
          <a:xfrm>
            <a:off x="8739360" y="1571760"/>
            <a:ext cx="494640" cy="457200"/>
            <a:chOff x="8739360" y="1571760"/>
            <a:chExt cx="494640" cy="457200"/>
          </a:xfrm>
        </p:grpSpPr>
        <p:sp>
          <p:nvSpPr>
            <p:cNvPr id="531" name="Line 153"/>
            <p:cNvSpPr/>
            <p:nvPr/>
          </p:nvSpPr>
          <p:spPr>
            <a:xfrm>
              <a:off x="8809560" y="1771560"/>
              <a:ext cx="0" cy="24768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54"/>
            <p:cNvSpPr/>
            <p:nvPr/>
          </p:nvSpPr>
          <p:spPr>
            <a:xfrm>
              <a:off x="8809560" y="1841400"/>
              <a:ext cx="195840" cy="381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55"/>
            <p:cNvSpPr/>
            <p:nvPr/>
          </p:nvSpPr>
          <p:spPr>
            <a:xfrm flipV="1">
              <a:off x="8995320" y="1832040"/>
              <a:ext cx="187200" cy="381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156"/>
            <p:cNvSpPr/>
            <p:nvPr/>
          </p:nvSpPr>
          <p:spPr>
            <a:xfrm>
              <a:off x="8809560" y="1955880"/>
              <a:ext cx="185400" cy="2520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157"/>
            <p:cNvSpPr/>
            <p:nvPr/>
          </p:nvSpPr>
          <p:spPr>
            <a:xfrm>
              <a:off x="8995320" y="1762200"/>
              <a:ext cx="0" cy="2667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158"/>
            <p:cNvSpPr/>
            <p:nvPr/>
          </p:nvSpPr>
          <p:spPr>
            <a:xfrm flipV="1">
              <a:off x="8995320" y="1949040"/>
              <a:ext cx="187200" cy="3492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159"/>
            <p:cNvSpPr/>
            <p:nvPr/>
          </p:nvSpPr>
          <p:spPr>
            <a:xfrm>
              <a:off x="9182880" y="1771560"/>
              <a:ext cx="0" cy="25092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Rectangle 160"/>
            <p:cNvSpPr/>
            <p:nvPr/>
          </p:nvSpPr>
          <p:spPr>
            <a:xfrm>
              <a:off x="8747640" y="1571760"/>
              <a:ext cx="48636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9" name="Group 161"/>
            <p:cNvGrpSpPr/>
            <p:nvPr/>
          </p:nvGrpSpPr>
          <p:grpSpPr>
            <a:xfrm>
              <a:off x="8739360" y="1609920"/>
              <a:ext cx="485640" cy="180000"/>
              <a:chOff x="8739360" y="1609920"/>
              <a:chExt cx="485640" cy="180000"/>
            </a:xfrm>
          </p:grpSpPr>
          <p:sp>
            <p:nvSpPr>
              <p:cNvPr id="540" name="Rectangle 162"/>
              <p:cNvSpPr/>
              <p:nvPr/>
            </p:nvSpPr>
            <p:spPr>
              <a:xfrm>
                <a:off x="8766720" y="1609920"/>
                <a:ext cx="43992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Rectangle 163"/>
              <p:cNvSpPr/>
              <p:nvPr/>
            </p:nvSpPr>
            <p:spPr>
              <a:xfrm>
                <a:off x="8739360" y="1761480"/>
                <a:ext cx="48564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2" name="Text Box 164"/>
          <p:cNvSpPr/>
          <p:nvPr/>
        </p:nvSpPr>
        <p:spPr>
          <a:xfrm>
            <a:off x="3166920" y="6000840"/>
            <a:ext cx="1976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.0 LL SR @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NICIPAL OFFICE (EXIST)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Group 165"/>
          <p:cNvGrpSpPr/>
          <p:nvPr/>
        </p:nvGrpSpPr>
        <p:grpSpPr>
          <a:xfrm>
            <a:off x="2671920" y="5857920"/>
            <a:ext cx="494640" cy="457200"/>
            <a:chOff x="2671920" y="5857920"/>
            <a:chExt cx="494640" cy="457200"/>
          </a:xfrm>
        </p:grpSpPr>
        <p:sp>
          <p:nvSpPr>
            <p:cNvPr id="544" name="Line 166"/>
            <p:cNvSpPr/>
            <p:nvPr/>
          </p:nvSpPr>
          <p:spPr>
            <a:xfrm>
              <a:off x="2742120" y="6057720"/>
              <a:ext cx="0" cy="24768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167"/>
            <p:cNvSpPr/>
            <p:nvPr/>
          </p:nvSpPr>
          <p:spPr>
            <a:xfrm>
              <a:off x="2742120" y="6127560"/>
              <a:ext cx="195840" cy="381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168"/>
            <p:cNvSpPr/>
            <p:nvPr/>
          </p:nvSpPr>
          <p:spPr>
            <a:xfrm flipV="1">
              <a:off x="2927880" y="6118200"/>
              <a:ext cx="187200" cy="381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169"/>
            <p:cNvSpPr/>
            <p:nvPr/>
          </p:nvSpPr>
          <p:spPr>
            <a:xfrm>
              <a:off x="2742120" y="6242040"/>
              <a:ext cx="185400" cy="2520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170"/>
            <p:cNvSpPr/>
            <p:nvPr/>
          </p:nvSpPr>
          <p:spPr>
            <a:xfrm>
              <a:off x="2927880" y="6048360"/>
              <a:ext cx="0" cy="2667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171"/>
            <p:cNvSpPr/>
            <p:nvPr/>
          </p:nvSpPr>
          <p:spPr>
            <a:xfrm flipV="1">
              <a:off x="2927880" y="6235200"/>
              <a:ext cx="187200" cy="3492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172"/>
            <p:cNvSpPr/>
            <p:nvPr/>
          </p:nvSpPr>
          <p:spPr>
            <a:xfrm>
              <a:off x="3115440" y="6057720"/>
              <a:ext cx="0" cy="25092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Rectangle 173"/>
            <p:cNvSpPr/>
            <p:nvPr/>
          </p:nvSpPr>
          <p:spPr>
            <a:xfrm>
              <a:off x="2680200" y="5857920"/>
              <a:ext cx="48636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2" name="Group 174"/>
            <p:cNvGrpSpPr/>
            <p:nvPr/>
          </p:nvGrpSpPr>
          <p:grpSpPr>
            <a:xfrm>
              <a:off x="2671920" y="5896080"/>
              <a:ext cx="485640" cy="180000"/>
              <a:chOff x="2671920" y="5896080"/>
              <a:chExt cx="485640" cy="180000"/>
            </a:xfrm>
          </p:grpSpPr>
          <p:sp>
            <p:nvSpPr>
              <p:cNvPr id="553" name="Rectangle 175"/>
              <p:cNvSpPr/>
              <p:nvPr/>
            </p:nvSpPr>
            <p:spPr>
              <a:xfrm>
                <a:off x="2699280" y="5896080"/>
                <a:ext cx="43992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Rectangle 176"/>
              <p:cNvSpPr/>
              <p:nvPr/>
            </p:nvSpPr>
            <p:spPr>
              <a:xfrm>
                <a:off x="2671920" y="6047640"/>
                <a:ext cx="48564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5" name="Line 177"/>
          <p:cNvSpPr/>
          <p:nvPr/>
        </p:nvSpPr>
        <p:spPr>
          <a:xfrm>
            <a:off x="2895480" y="4714920"/>
            <a:ext cx="0" cy="11430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179"/>
          <p:cNvSpPr/>
          <p:nvPr/>
        </p:nvSpPr>
        <p:spPr>
          <a:xfrm>
            <a:off x="237960" y="4500720"/>
            <a:ext cx="135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.0 LL SR @ GANDHINA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EXI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Group 180"/>
          <p:cNvGrpSpPr/>
          <p:nvPr/>
        </p:nvGrpSpPr>
        <p:grpSpPr>
          <a:xfrm>
            <a:off x="452520" y="5143680"/>
            <a:ext cx="495000" cy="457200"/>
            <a:chOff x="452520" y="5143680"/>
            <a:chExt cx="495000" cy="457200"/>
          </a:xfrm>
        </p:grpSpPr>
        <p:sp>
          <p:nvSpPr>
            <p:cNvPr id="558" name="Line 181"/>
            <p:cNvSpPr/>
            <p:nvPr/>
          </p:nvSpPr>
          <p:spPr>
            <a:xfrm>
              <a:off x="523080" y="5343480"/>
              <a:ext cx="0" cy="24768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182"/>
            <p:cNvSpPr/>
            <p:nvPr/>
          </p:nvSpPr>
          <p:spPr>
            <a:xfrm>
              <a:off x="523080" y="5413320"/>
              <a:ext cx="195840" cy="381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Line 183"/>
            <p:cNvSpPr/>
            <p:nvPr/>
          </p:nvSpPr>
          <p:spPr>
            <a:xfrm flipV="1">
              <a:off x="708480" y="5403960"/>
              <a:ext cx="187560" cy="381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84"/>
            <p:cNvSpPr/>
            <p:nvPr/>
          </p:nvSpPr>
          <p:spPr>
            <a:xfrm>
              <a:off x="523080" y="5527800"/>
              <a:ext cx="185400" cy="2520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85"/>
            <p:cNvSpPr/>
            <p:nvPr/>
          </p:nvSpPr>
          <p:spPr>
            <a:xfrm>
              <a:off x="708480" y="5334120"/>
              <a:ext cx="0" cy="26676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186"/>
            <p:cNvSpPr/>
            <p:nvPr/>
          </p:nvSpPr>
          <p:spPr>
            <a:xfrm flipV="1">
              <a:off x="708480" y="5520960"/>
              <a:ext cx="187560" cy="3492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87"/>
            <p:cNvSpPr/>
            <p:nvPr/>
          </p:nvSpPr>
          <p:spPr>
            <a:xfrm>
              <a:off x="896040" y="5343480"/>
              <a:ext cx="0" cy="25092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Rectangle 188"/>
            <p:cNvSpPr/>
            <p:nvPr/>
          </p:nvSpPr>
          <p:spPr>
            <a:xfrm>
              <a:off x="460800" y="5143680"/>
              <a:ext cx="486720" cy="28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6" name="Group 189"/>
            <p:cNvGrpSpPr/>
            <p:nvPr/>
          </p:nvGrpSpPr>
          <p:grpSpPr>
            <a:xfrm>
              <a:off x="452520" y="5181840"/>
              <a:ext cx="486000" cy="180000"/>
              <a:chOff x="452520" y="5181840"/>
              <a:chExt cx="486000" cy="180000"/>
            </a:xfrm>
          </p:grpSpPr>
          <p:sp>
            <p:nvSpPr>
              <p:cNvPr id="567" name="Rectangle 190"/>
              <p:cNvSpPr/>
              <p:nvPr/>
            </p:nvSpPr>
            <p:spPr>
              <a:xfrm>
                <a:off x="479880" y="5181840"/>
                <a:ext cx="440280" cy="170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Rectangle 191"/>
              <p:cNvSpPr/>
              <p:nvPr/>
            </p:nvSpPr>
            <p:spPr>
              <a:xfrm>
                <a:off x="452520" y="5333400"/>
                <a:ext cx="486000" cy="2844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Text Box 192"/>
          <p:cNvSpPr/>
          <p:nvPr/>
        </p:nvSpPr>
        <p:spPr>
          <a:xfrm>
            <a:off x="5105520" y="1295280"/>
            <a:ext cx="93492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3333ff"/>
                </a:solidFill>
                <a:latin typeface="Tahoma"/>
              </a:rPr>
              <a:t>2317/324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93"/>
          <p:cNvSpPr/>
          <p:nvPr/>
        </p:nvSpPr>
        <p:spPr>
          <a:xfrm>
            <a:off x="4452840" y="1571760"/>
            <a:ext cx="86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300 DI K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94"/>
          <p:cNvSpPr/>
          <p:nvPr/>
        </p:nvSpPr>
        <p:spPr>
          <a:xfrm>
            <a:off x="4524480" y="1857240"/>
            <a:ext cx="83808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S 20 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95"/>
          <p:cNvSpPr/>
          <p:nvPr/>
        </p:nvSpPr>
        <p:spPr>
          <a:xfrm>
            <a:off x="2997360" y="3314880"/>
            <a:ext cx="83808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S 280 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196"/>
          <p:cNvSpPr/>
          <p:nvPr/>
        </p:nvSpPr>
        <p:spPr>
          <a:xfrm rot="19750200">
            <a:off x="3885840" y="2723760"/>
            <a:ext cx="93492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3333ff"/>
                </a:solidFill>
                <a:latin typeface="Tahoma"/>
              </a:rPr>
              <a:t>1900/265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197"/>
          <p:cNvSpPr/>
          <p:nvPr/>
        </p:nvSpPr>
        <p:spPr>
          <a:xfrm rot="19660200">
            <a:off x="4308840" y="290016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300 DI K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198"/>
          <p:cNvSpPr/>
          <p:nvPr/>
        </p:nvSpPr>
        <p:spPr>
          <a:xfrm>
            <a:off x="8381880" y="2071800"/>
            <a:ext cx="83844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S 1550 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199"/>
          <p:cNvSpPr/>
          <p:nvPr/>
        </p:nvSpPr>
        <p:spPr>
          <a:xfrm>
            <a:off x="5667480" y="4071960"/>
            <a:ext cx="93492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3333ff"/>
                </a:solidFill>
                <a:latin typeface="Tahoma"/>
              </a:rPr>
              <a:t>900/126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200"/>
          <p:cNvSpPr/>
          <p:nvPr/>
        </p:nvSpPr>
        <p:spPr>
          <a:xfrm>
            <a:off x="7310520" y="407196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201"/>
          <p:cNvSpPr/>
          <p:nvPr/>
        </p:nvSpPr>
        <p:spPr>
          <a:xfrm rot="18169800">
            <a:off x="3049200" y="4271760"/>
            <a:ext cx="59040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60 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202"/>
          <p:cNvSpPr/>
          <p:nvPr/>
        </p:nvSpPr>
        <p:spPr>
          <a:xfrm>
            <a:off x="3166920" y="5715000"/>
            <a:ext cx="83844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70 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03"/>
          <p:cNvSpPr/>
          <p:nvPr/>
        </p:nvSpPr>
        <p:spPr>
          <a:xfrm>
            <a:off x="452520" y="5572080"/>
            <a:ext cx="83808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720 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207"/>
          <p:cNvSpPr/>
          <p:nvPr/>
        </p:nvSpPr>
        <p:spPr>
          <a:xfrm>
            <a:off x="5097600" y="1989000"/>
            <a:ext cx="93492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3333ff"/>
                </a:solidFill>
                <a:latin typeface="Tahoma"/>
              </a:rPr>
              <a:t>417 / 58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208"/>
          <p:cNvSpPr/>
          <p:nvPr/>
        </p:nvSpPr>
        <p:spPr>
          <a:xfrm>
            <a:off x="5307120" y="227016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50 DI K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209"/>
          <p:cNvSpPr/>
          <p:nvPr/>
        </p:nvSpPr>
        <p:spPr>
          <a:xfrm>
            <a:off x="5810400" y="1643040"/>
            <a:ext cx="83808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30 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10"/>
          <p:cNvSpPr/>
          <p:nvPr/>
        </p:nvSpPr>
        <p:spPr>
          <a:xfrm>
            <a:off x="3381480" y="378612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50 DI K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211"/>
          <p:cNvSpPr/>
          <p:nvPr/>
        </p:nvSpPr>
        <p:spPr>
          <a:xfrm>
            <a:off x="2432160" y="3789360"/>
            <a:ext cx="93492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3333ff"/>
                </a:solidFill>
                <a:latin typeface="Tahoma"/>
              </a:rPr>
              <a:t>1000/139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212"/>
          <p:cNvSpPr/>
          <p:nvPr/>
        </p:nvSpPr>
        <p:spPr>
          <a:xfrm>
            <a:off x="1447920" y="4511520"/>
            <a:ext cx="93492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3333ff"/>
                </a:solidFill>
                <a:latin typeface="Tahoma"/>
              </a:rPr>
              <a:t>583/8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213"/>
          <p:cNvSpPr/>
          <p:nvPr/>
        </p:nvSpPr>
        <p:spPr>
          <a:xfrm>
            <a:off x="1600200" y="478476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00 DI K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214"/>
          <p:cNvSpPr/>
          <p:nvPr/>
        </p:nvSpPr>
        <p:spPr>
          <a:xfrm>
            <a:off x="1952640" y="5357880"/>
            <a:ext cx="93492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1" lang="en-US" sz="1000" spc="-1" strike="noStrike">
                <a:solidFill>
                  <a:srgbClr val="3333ff"/>
                </a:solidFill>
                <a:latin typeface="Tahoma"/>
              </a:rPr>
              <a:t>417/58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215"/>
          <p:cNvSpPr/>
          <p:nvPr/>
        </p:nvSpPr>
        <p:spPr>
          <a:xfrm rot="16200000">
            <a:off x="2643120" y="52380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50 DI K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216"/>
          <p:cNvSpPr/>
          <p:nvPr/>
        </p:nvSpPr>
        <p:spPr>
          <a:xfrm>
            <a:off x="647640" y="0"/>
            <a:ext cx="857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LUR CWSS – MELUR MUNICIPALITY IN MADURAI  DISTRICT  -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LOW DIAGRAM (  AS  PER  SCOPE  OF  MELUR  CW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17"/>
          <p:cNvSpPr/>
          <p:nvPr/>
        </p:nvSpPr>
        <p:spPr>
          <a:xfrm>
            <a:off x="2743200" y="1219320"/>
            <a:ext cx="172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5  HP OW SUB P’S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-2317 LPM x  27 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219"/>
          <p:cNvSpPr/>
          <p:nvPr/>
        </p:nvSpPr>
        <p:spPr>
          <a:xfrm>
            <a:off x="152280" y="0"/>
            <a:ext cx="9677520" cy="6858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24"/>
          <p:cNvSpPr/>
          <p:nvPr/>
        </p:nvSpPr>
        <p:spPr>
          <a:xfrm flipH="1">
            <a:off x="8381520" y="1668600"/>
            <a:ext cx="428760" cy="460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Straight Connector 95"/>
          <p:cNvSpPr/>
          <p:nvPr/>
        </p:nvSpPr>
        <p:spPr>
          <a:xfrm flipH="1">
            <a:off x="1593360" y="4716360"/>
            <a:ext cx="1800" cy="8575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Straight Connector 97"/>
          <p:cNvSpPr/>
          <p:nvPr/>
        </p:nvSpPr>
        <p:spPr>
          <a:xfrm flipH="1" flipV="1">
            <a:off x="871200" y="5571720"/>
            <a:ext cx="723960" cy="18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06:48:34Z</dcterms:created>
  <dc:creator>PDC</dc:creator>
  <dc:description/>
  <dc:language>en-US</dc:language>
  <cp:lastModifiedBy>Administrator</cp:lastModifiedBy>
  <dcterms:modified xsi:type="dcterms:W3CDTF">2016-07-02T05:16:56Z</dcterms:modified>
  <cp:revision>491</cp:revision>
  <dc:subject/>
  <dc:title>Slide 1</dc:title>
</cp:coreProperties>
</file>